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C4A21-AD81-4D94-874A-B62E5DD25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897CD-B971-4040-9177-B8E9DB7CE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5B534-CF89-4F07-B8E3-24E734937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90C88-F9D3-40CD-B362-56914E9E5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44D0F3-9374-4D63-8D94-70E802AADE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E1EA3-E69D-4BFB-8447-7B3F95AF9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CC106-7F0E-42DD-9143-750088F58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E0CE6-E325-486F-9914-998596B5D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BC820-A242-41AC-B948-CC6DF49B4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EC6A5-E21A-4C5F-8D14-73A6AAAE0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6BBCB-C9D7-474E-866E-06C8460B9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B26F8-A353-4AFE-B6C4-8D7CB8D3A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40711-2F25-4143-A75B-09BF26976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CEFC5-107E-417C-8B2E-E4C616CF3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82BE8-4116-48CC-93C6-B680ADB15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F9EC62-7188-4372-9FCE-CF1C84CB5C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0AD0C2-8EB0-4903-ACFC-129236D4ED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135AD-D8E1-495B-8633-04D22E9E6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4D0D9-2FED-470F-A482-3DDF10560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4DF8E-FD23-4C14-90F9-02BC86E42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BB7D0-B43F-47D0-998A-F6A12511A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0993D-17A7-4090-B9F4-F29EAAC59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B25EA-3001-4D5C-AF7C-9BE39B565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97581-9C7A-42FD-9F4A-1BE1A08D5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05D4E-E84B-4051-BCF3-7765E71748AC}"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ACD8-BE69-4025-A5EB-DD91AD8F6311}"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6666"/>
                </a:solidFill>
                <a:latin typeface="Verdana"/>
              </a:rPr>
              <a:t>DOL</a:t>
            </a:r>
            <a:endParaRPr b="0" lang="en-US" sz="8000" spc="-1" strike="noStrike">
              <a:solidFill>
                <a:srgbClr val="006666"/>
              </a:solidFill>
              <a:latin typeface="Verdana"/>
            </a:endParaRPr>
          </a:p>
        </p:txBody>
      </p:sp>
      <p:sp>
        <p:nvSpPr>
          <p:cNvPr id="16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11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99"/>
                </a:solidFill>
                <a:latin typeface="Verdana"/>
              </a:rPr>
              <a:t>She owed me two dollars and seventy five cents</a:t>
            </a:r>
            <a:r>
              <a:rPr b="0" lang="en-US" sz="4400" spc="-1" strike="noStrike">
                <a:solidFill>
                  <a:srgbClr val="006699"/>
                </a:solidFill>
                <a:latin typeface="Verdana"/>
              </a:rPr>
              <a:t>.</a:t>
            </a:r>
            <a:endParaRPr b="0" lang="en-US" sz="4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Homework</a:t>
            </a:r>
            <a:endParaRPr b="0" lang="en-US" sz="4400" spc="-1" strike="noStrike">
              <a:solidFill>
                <a:srgbClr val="006666"/>
              </a:solidFill>
              <a:latin typeface="Verdana"/>
            </a:endParaRPr>
          </a:p>
        </p:txBody>
      </p:sp>
      <p:sp>
        <p:nvSpPr>
          <p:cNvPr id="18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9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Verdana"/>
              </a:rPr>
              <a:t>Read chapters 20 and 21 for homework.</a:t>
            </a:r>
            <a:endParaRPr b="0" lang="en-US" sz="3600" spc="-1" strike="noStrike">
              <a:solidFill>
                <a:srgbClr val="006699"/>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Answer</a:t>
            </a:r>
            <a:endParaRPr b="0" lang="en-US" sz="4400" spc="-1" strike="noStrike">
              <a:solidFill>
                <a:srgbClr val="006666"/>
              </a:solidFill>
              <a:latin typeface="Verdana"/>
            </a:endParaRPr>
          </a:p>
        </p:txBody>
      </p:sp>
      <p:sp>
        <p:nvSpPr>
          <p:cNvPr id="16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11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Verdana"/>
              </a:rPr>
              <a:t>She owed me $2.75.</a:t>
            </a:r>
            <a:endParaRPr b="0" lang="en-US" sz="4400" spc="-1" strike="noStrike">
              <a:solidFill>
                <a:srgbClr val="006699"/>
              </a:solidFill>
              <a:latin typeface="Verdan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99"/>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member use numerals to express amounts of money, decimals and percentage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Focused Freewrite</a:t>
            </a:r>
            <a:endParaRPr b="0" lang="en-US" sz="4400" spc="-1" strike="noStrike">
              <a:solidFill>
                <a:srgbClr val="006666"/>
              </a:solidFill>
              <a:latin typeface="Verdana"/>
            </a:endParaRPr>
          </a:p>
        </p:txBody>
      </p:sp>
      <p:sp>
        <p:nvSpPr>
          <p:cNvPr id="17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5 minutes</a:t>
            </a:r>
            <a:endParaRPr b="0" lang="en-US" sz="3200" spc="-1" strike="noStrike">
              <a:solidFill>
                <a:srgbClr val="006699"/>
              </a:solidFill>
              <a:latin typeface="Verdana"/>
            </a:endParaRPr>
          </a:p>
          <a:p>
            <a:pPr marL="343080" indent="-343080">
              <a:lnSpc>
                <a:spcPct val="90000"/>
              </a:lnSpc>
              <a:spcBef>
                <a:spcPts val="10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Verdana"/>
              </a:rPr>
              <a:t>Given the ability to project yourself into the past but not return, would you do so? Where would you go and what would you try to accomplish if you knew you might be able to change the course of history?</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Practice</a:t>
            </a:r>
            <a:endParaRPr b="0" lang="en-US" sz="4400" spc="-1" strike="noStrike">
              <a:solidFill>
                <a:srgbClr val="006666"/>
              </a:solidFill>
              <a:latin typeface="Verdana"/>
            </a:endParaRPr>
          </a:p>
        </p:txBody>
      </p:sp>
      <p:sp>
        <p:nvSpPr>
          <p:cNvPr id="17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rite an antonym for the following word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nveigh</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urmise</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ntrinsic</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Occult</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recipitate</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Vocabulary Practice 2</a:t>
            </a:r>
            <a:endParaRPr b="0" lang="en-US" sz="4400" spc="-1" strike="noStrike">
              <a:solidFill>
                <a:srgbClr val="006666"/>
              </a:solidFill>
              <a:latin typeface="Verdana"/>
            </a:endParaRPr>
          </a:p>
        </p:txBody>
      </p:sp>
      <p:sp>
        <p:nvSpPr>
          <p:cNvPr id="17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Use the following words in a sentence: surmise, occult, precipitate, millennium, lassitude.</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ad some out loud</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o Kill a Mockingbird </a:t>
            </a:r>
            <a:endParaRPr b="0" lang="en-US" sz="4400" spc="-1" strike="noStrike">
              <a:solidFill>
                <a:srgbClr val="006666"/>
              </a:solidFill>
              <a:latin typeface="Verdana"/>
            </a:endParaRPr>
          </a:p>
        </p:txBody>
      </p:sp>
      <p:sp>
        <p:nvSpPr>
          <p:cNvPr id="17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endParaRPr b="0" lang="en-US" sz="3200" spc="-1" strike="noStrike">
              <a:solidFill>
                <a:srgbClr val="006699"/>
              </a:solidFill>
              <a:latin typeface="Verdana"/>
            </a:endParaRPr>
          </a:p>
        </p:txBody>
      </p:sp>
      <p:sp>
        <p:nvSpPr>
          <p:cNvPr id="178" name=""/>
          <p:cNvSpPr/>
          <p:nvPr/>
        </p:nvSpPr>
        <p:spPr>
          <a:xfrm>
            <a:off x="457200" y="1447920"/>
            <a:ext cx="81532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hat did Mayella do to get the other children out of the house?</a:t>
            </a: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hat did Tom’s running away from the Ewell’s house suggest? What else could he have done?</a:t>
            </a: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Verdana"/>
              </a:rPr>
              <a:t>Why does Dill begin to cry?</a:t>
            </a: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Verdana"/>
              </a:rPr>
              <a:t>What is Tom actually guilty of? </a:t>
            </a:r>
            <a:endParaRPr b="0" lang="en-US" sz="2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erspective: The “Innocent”</a:t>
            </a:r>
            <a:endParaRPr b="0" lang="en-US" sz="4400" spc="-1" strike="noStrike">
              <a:solidFill>
                <a:srgbClr val="006666"/>
              </a:solidFill>
              <a:latin typeface="Verdana"/>
            </a:endParaRPr>
          </a:p>
        </p:txBody>
      </p:sp>
      <p:sp>
        <p:nvSpPr>
          <p:cNvPr id="18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ad poem-page 57 of activity pack</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at old Kaspar say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at the author mean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o is the innocent:</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Perspective</a:t>
            </a:r>
            <a:endParaRPr b="0" lang="en-US" sz="4400" spc="-1" strike="noStrike">
              <a:solidFill>
                <a:srgbClr val="006666"/>
              </a:solidFill>
              <a:latin typeface="Verdana"/>
            </a:endParaRPr>
          </a:p>
        </p:txBody>
      </p:sp>
      <p:sp>
        <p:nvSpPr>
          <p:cNvPr id="18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read the last paragraph of ch. 19</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at actually happened:</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How Scout perceives it:</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How Dill Perceives it:</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Writing Assignment</a:t>
            </a:r>
            <a:endParaRPr b="0" lang="en-US" sz="4400" spc="-1" strike="noStrike">
              <a:solidFill>
                <a:srgbClr val="006666"/>
              </a:solidFill>
              <a:latin typeface="Verdana"/>
            </a:endParaRPr>
          </a:p>
        </p:txBody>
      </p:sp>
      <p:sp>
        <p:nvSpPr>
          <p:cNvPr id="18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rite two paragraphs from the perspective of Bob Ewell watching his daughter testify. What would have been going through his mind?</a:t>
            </a: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n write two paragraphs from the perspective of Tom Robinson watching Mayella testify. What would have been going through his head?</a:t>
            </a: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19:37:59Z</dcterms:created>
  <dc:creator>rebecca</dc:creator>
  <dc:description/>
  <dc:language>en-US</dc:language>
  <cp:lastModifiedBy>Angie</cp:lastModifiedBy>
  <dcterms:modified xsi:type="dcterms:W3CDTF">2009-02-25T09:56:30Z</dcterms:modified>
  <cp:revision>3</cp:revision>
  <dc:subject/>
  <dc:title>DOL</dc:title>
</cp:coreProperties>
</file>